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3.wmf" ContentType="image/x-wmf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42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783-FE50-4784-8C8F-30DE3567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5DC-A811-435D-BD90-080DEFFA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5C5-3507-4A4B-A890-3CA89879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A2D-AC7B-4DC0-8E54-DC32746C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BE8E-0DCD-4091-B200-7DF67A3D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4CE8-EAE9-4202-9272-5D7703E2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F8B-1D7C-4594-B17E-314A515C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2CA7-7BED-497C-8535-E8BE6832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F73-64E4-41A9-B13A-C9BCDB9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7234-7A9D-4A68-882E-6BDEFB5C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826F-D606-4B43-8D72-2AEE604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B65-6FCB-4744-B198-25325FC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F384-7C8F-4F44-B0D1-C8C1B43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699-3CE7-4648-9A32-956318F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6C7E-326A-4BAD-87B0-5A7C6BE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157-00A6-4FF8-ADBF-ACC05950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D08-FB8E-406E-B757-FFA49FC1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2472-2BB0-4699-B99F-965735C6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714C-CB55-4401-91DD-ED712F5C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2F94-1D8E-40A4-9C3A-2693CA6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6636-34A5-45C2-AC3B-67983A33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F47F-C7F3-4DC2-85E8-C3E8412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1EE-6B69-4EAE-BEFB-1E9AA3F4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1228-CF18-469F-826A-9F47CF1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067B-96E4-44C4-B54E-3F6A2DA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D93A-958C-419D-BB01-67FE159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D40C-D82C-4C2F-AEF0-943F6FF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F16B-9CEB-4BAD-A785-74B46E8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B973-49BD-487F-A71D-7CAAC72B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7645-4A57-4111-ABF7-27F28D8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80EE-E087-4F43-B4AC-D4AFDDA9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0B47-FEC5-498D-84FC-D19CBC69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D51A-7C2B-4202-829F-C882DF94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295-D4F7-4A59-97CE-8255F20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286C-088A-412E-9571-497E775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82E1-D04B-4663-9907-7BEA9D9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C653-C133-4D89-9F0E-EECBF1DC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D637-FAE4-4363-98C0-4BBA593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0545-72D8-40F6-8C20-C81B25B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AB09-9872-42DF-89F6-6EA67E1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51CE-460A-437E-A4E5-97D4E71B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760A-BB33-4569-9F6A-2023B979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D9C6-3029-464D-AC50-ADDFD5B6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3881-8331-4C32-99CA-2152E96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851-2AA8-4601-A20E-B2F3208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BC7F3-FE46-4B9F-AEF3-E7E05FF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BD4CC-3D9D-4928-875A-B29BE4E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9BA1-D648-430A-AC04-A2BB4EA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843A6-3CBB-4145-87A9-86D9454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108B-8916-413F-B9C9-081458B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EC39-C58C-418E-8A76-F5D9902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FDBA-5AA8-4316-866E-9B31E74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44B0-BC73-47C1-AEE7-F6BA159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5036-C6C7-426A-9084-E1466C8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E84B-67F8-44EE-BC0E-3EC1EEC7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4DD-9839-476D-B5D2-CFECE2E9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2D1D-3E46-4017-A4E5-45B691E9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6C3-E81A-424F-A3B0-2FEE8BB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3D5-30D4-4701-A8A8-739525D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579-735C-423E-97F5-DAAE582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A487-B14A-4A5F-AF5A-311FF51F659F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B576-71E5-4049-803A-43825953175B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FCE-F964-4003-8693-BAACA9BE82AC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E32F-CFA2-464C-9EA4-699BF5D6A568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E997-4D9E-42A6-BEAC-D937E89DEB44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ch@rmin\AppData\Local\Microsoft\Windows\Temporary Internet Files\Content.IE5\A2RJIVVW\MP900433365[1].jpg"/>
          <p:cNvPicPr/>
          <p:nvPr/>
        </p:nvPicPr>
        <p:blipFill>
          <a:blip r:embed="rId1"/>
          <a:stretch/>
        </p:blipFill>
        <p:spPr>
          <a:xfrm>
            <a:off x="1089000" y="366840"/>
            <a:ext cx="6610320" cy="4076640"/>
          </a:xfrm>
          <a:prstGeom prst="rect">
            <a:avLst/>
          </a:prstGeom>
          <a:ln w="0">
            <a:noFill/>
          </a:ln>
        </p:spPr>
      </p:pic>
      <p:pic>
        <p:nvPicPr>
          <p:cNvPr id="391" name="3 Título" descr=""/>
          <p:cNvPicPr/>
          <p:nvPr/>
        </p:nvPicPr>
        <p:blipFill>
          <a:blip r:embed="rId2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079640" y="44686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1 CuadroTexto"/>
          <p:cNvSpPr/>
          <p:nvPr/>
        </p:nvSpPr>
        <p:spPr>
          <a:xfrm>
            <a:off x="971640" y="5397480"/>
            <a:ext cx="70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w Cen MT"/>
              </a:rPr>
              <a:t>Zona 072                   Asesores académicos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reli Jaziel Corona Ni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na Patricia Pérez Obreg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. Humberto Cardiel Juárez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1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6487"/>
                <a:lnTo>
                  <a:pt x="4046" y="21481"/>
                </a:lnTo>
                <a:lnTo>
                  <a:pt x="0" y="16200"/>
                </a:lnTo>
                <a:lnTo>
                  <a:pt x="4046" y="10681"/>
                </a:lnTo>
                <a:lnTo>
                  <a:pt x="4046" y="13381"/>
                </a:lnTo>
                <a:arcTo wR="21600" hR="6750" stAng="3516487" swAng="-305050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5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6927"/>
                <a:lnTo>
                  <a:pt x="4791" y="21432"/>
                </a:lnTo>
                <a:lnTo>
                  <a:pt x="0" y="16200"/>
                </a:lnTo>
                <a:lnTo>
                  <a:pt x="4791" y="10632"/>
                </a:lnTo>
                <a:lnTo>
                  <a:pt x="4791" y="13332"/>
                </a:lnTo>
                <a:arcTo wR="21600" hR="6750" stAng="3236927" swAng="-277094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7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30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5004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2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4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3080924"/>
                <a:lnTo>
                  <a:pt x="5400" y="21379"/>
                </a:lnTo>
                <a:lnTo>
                  <a:pt x="0" y="16498"/>
                </a:lnTo>
                <a:lnTo>
                  <a:pt x="5400" y="11175"/>
                </a:lnTo>
                <a:lnTo>
                  <a:pt x="5400" y="13726"/>
                </a:lnTo>
                <a:arcTo wR="21600" hR="6974" stAng="3080924" swAng="-2647002"/>
                <a:lnTo>
                  <a:pt x="20103" y="9525"/>
                </a:lnTo>
                <a:arcTo wR="21600" hR="6974" stAng="-433922" swAng="-4966078"/>
                <a:close/>
              </a:path>
              <a:path fill="darkenLess"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-433922"/>
                <a:lnTo>
                  <a:pt x="20103" y="9525"/>
                </a:lnTo>
                <a:arcTo wR="21600" hR="6974" stAng="-433922" swAng="-4966078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6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9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37300"/>
                <a:lnTo>
                  <a:pt x="3993" y="21484"/>
                </a:lnTo>
                <a:lnTo>
                  <a:pt x="0" y="16200"/>
                </a:lnTo>
                <a:lnTo>
                  <a:pt x="3993" y="10684"/>
                </a:lnTo>
                <a:lnTo>
                  <a:pt x="3993" y="13384"/>
                </a:lnTo>
                <a:arcTo wR="21600" hR="6750" stAng="3537300" swAng="-307131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1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4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6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1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3605"/>
                <a:lnTo>
                  <a:pt x="3176" y="21527"/>
                </a:lnTo>
                <a:lnTo>
                  <a:pt x="0" y="16200"/>
                </a:lnTo>
                <a:lnTo>
                  <a:pt x="3176" y="10727"/>
                </a:lnTo>
                <a:lnTo>
                  <a:pt x="3176" y="13427"/>
                </a:lnTo>
                <a:arcTo wR="21600" hR="6750" stAng="3873605" swAng="-340761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3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6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4198"/>
                <a:lnTo>
                  <a:pt x="4633" y="21443"/>
                </a:lnTo>
                <a:lnTo>
                  <a:pt x="0" y="16200"/>
                </a:lnTo>
                <a:lnTo>
                  <a:pt x="4633" y="10643"/>
                </a:lnTo>
                <a:lnTo>
                  <a:pt x="4633" y="13343"/>
                </a:lnTo>
                <a:arcTo wR="21600" hR="6750" stAng="3294198" swAng="-28282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8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2 Marcador de contenido" descr=""/>
          <p:cNvPicPr/>
          <p:nvPr/>
        </p:nvPicPr>
        <p:blipFill>
          <a:blip r:embed="rId1"/>
          <a:stretch/>
        </p:blipFill>
        <p:spPr>
          <a:xfrm>
            <a:off x="-165240" y="396720"/>
            <a:ext cx="9176040" cy="6126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63" name="3 Diagrama" descr=""/>
          <p:cNvPicPr/>
          <p:nvPr/>
        </p:nvPicPr>
        <p:blipFill>
          <a:blip r:embed="rId1"/>
          <a:stretch/>
        </p:blipFill>
        <p:spPr>
          <a:xfrm>
            <a:off x="755640" y="469800"/>
            <a:ext cx="784548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2 Marcador de contenido" descr=""/>
          <p:cNvPicPr/>
          <p:nvPr/>
        </p:nvPicPr>
        <p:blipFill>
          <a:blip r:embed="rId1"/>
          <a:stretch/>
        </p:blipFill>
        <p:spPr>
          <a:xfrm>
            <a:off x="96840" y="195120"/>
            <a:ext cx="8682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6. Propicia un ambiente escolar para un aprendizaje y un desarrollo sano e integral de los estudiant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7. Se auto determina y cuida de sí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8. Se expresa y se comun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9. Piensa crítica y con reflex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0. Aprende de forma autóno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1. Trabaja de forma colaborativ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2. Participa con responsabilidad soc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3. Organiza su formación continua en su trayectoria profesio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3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20T15:44:10Z</dcterms:modified>
  <cp:revision>34</cp:revision>
  <dc:subject/>
  <dc:title>¡BIENVENIDOS!</dc:title>
</cp:coreProperties>
</file>